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2188-8382-4170-A016-699099CCEE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9236-F36F-4108-9C94-1C26D9ACB0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33B7-0C6A-4104-ADC2-BEECDEA94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C279-946D-4FBC-BC04-A5F8D903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F6F3-FBDC-4948-8D6F-50A2C6C1D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8699-A64B-4CC6-97FC-BFEA71AC6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F3DB-7B45-43FD-B3AB-51C25822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88CC-7206-4AFF-A589-1463F516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B183-6B73-40C5-8262-48294CE0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246E-ED8A-4249-81F4-3C27DD5E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28E7-7365-4280-9186-B74B18E2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C586-63C3-4C04-8403-07C60B45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CFDE-DD44-4899-9BF6-D0BB8D7A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AFCF-7358-4A90-BBAD-9B1ACF31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ADE0-5C34-4C12-A906-A987442BB8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0/SOA-Condylomata-acuminata-man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5"/>
          <p:cNvSpPr/>
          <p:nvPr/>
        </p:nvSpPr>
        <p:spPr>
          <a:xfrm>
            <a:off x="457200" y="5715000"/>
            <a:ext cx="830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upload.wikimedia.org/wikipedia/commons/d/d0/SOA-Condylomata-acuminata-man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http://upload.wikimedia.org/wikipedia/commons/d/d0/SOA-Condylomata-acuminata-man.jpg"/>
          <p:cNvPicPr/>
          <p:nvPr/>
        </p:nvPicPr>
        <p:blipFill>
          <a:blip r:embed="rId2"/>
          <a:stretch/>
        </p:blipFill>
        <p:spPr>
          <a:xfrm>
            <a:off x="1219320" y="380880"/>
            <a:ext cx="68580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17:19:19Z</dcterms:created>
  <dc:creator>maxwee01</dc:creator>
  <dc:description/>
  <dc:language>en-US</dc:language>
  <cp:lastModifiedBy>maxwee01</cp:lastModifiedBy>
  <dcterms:modified xsi:type="dcterms:W3CDTF">2010-02-17T17:30:00Z</dcterms:modified>
  <cp:revision>2</cp:revision>
  <dc:subject/>
  <dc:title>Slide 1</dc:title>
</cp:coreProperties>
</file>